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7B2-DE99-4F2D-A4B3-F7B913CB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F71-7CA3-4CA6-9638-A4A80E6A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A38-EC88-46E2-A7EC-FBC5F60E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125-422E-423F-A363-DDDB2AD2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E786-F809-460C-91F4-849D39E8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DE7-E220-488A-B84D-EEC4B780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E2F2-221A-4DEF-AA82-26E19290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FFD8-FD4D-490B-8F34-04D5D69A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630F-CBB2-46E9-87BD-8167DAD4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DE9E-A6A0-4455-8766-CE30AFE9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80D5-E434-438B-B0D8-C6916B32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5D7-8294-4660-A4BF-6B49A89A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D225-3C0D-4774-A1F0-8A8D6F694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af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52280" y="1295280"/>
            <a:ext cx="7162560" cy="2819520"/>
          </a:xfrm>
          <a:prstGeom prst="ellipse">
            <a:avLst/>
          </a:prstGeom>
          <a:solidFill>
            <a:srgbClr val="ffffcc">
              <a:alpha val="57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56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cked l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63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92400"/>
            <a:ext cx="12189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5588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873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787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7208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780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6352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0924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5496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406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1016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558880"/>
            <a:ext cx="1524240" cy="2210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159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Eclipse 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558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0160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47242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86400" y="6172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715000"/>
            <a:ext cx="1371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04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267080"/>
            <a:ext cx="3200400" cy="22100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32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57150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0292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43434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7913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8006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2666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5029200"/>
            <a:ext cx="12952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-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12193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pt 14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y: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worked for 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286000"/>
            <a:ext cx="3429000" cy="3809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724280"/>
            <a:ext cx="3429000" cy="21337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0:22:52Z</dcterms:created>
  <dc:creator>Chris Laffra</dc:creator>
  <dc:description/>
  <dc:language>en-US</dc:language>
  <cp:lastModifiedBy>Chris Laffra</cp:lastModifiedBy>
  <dcterms:modified xsi:type="dcterms:W3CDTF">2004-10-05T14:16:18Z</dcterms:modified>
  <cp:revision>1</cp:revision>
  <dc:subject/>
  <dc:title>Universal IDE Generator</dc:title>
</cp:coreProperties>
</file>